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AD1-6317-4B13-B90A-A1CFC898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70F-6020-4B74-96C5-03B3EEA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8CACF-70E0-477C-976D-BFD4AA9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D9F78-8437-453B-B7EB-E6F37313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70036-607F-4942-95DE-58FB57D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51F11-F43F-4A3B-A1CB-509FAC9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62718-9F43-4C04-8756-DA2A7CE9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1F326-5951-4049-80F5-66448B5F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0BF93-423F-4269-8CDB-D4E01C9A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B458E-D1B4-47C8-8618-F1761856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5EDC8-3500-4032-A6F3-B23C177D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EB2117-2E28-4DC0-9EFC-B9EC046A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018-BD91-4B5F-A361-FA95BAD9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90B420-D46E-4EDF-BAE5-7F311F76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788B6A-F9EE-4F2B-AF30-5174DE40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769248-1ED4-4426-9418-7928EDB7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069291-A274-4432-8E38-8D7DBE6B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D46341-0565-4758-BA1C-FFB9F4E2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8B82A2-C113-4E0E-A656-BCA9E180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1BC563-DC2A-462D-9883-0413AA5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BA268C-58F2-42FA-901B-6C2C7FB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ABC50F-E6EF-476B-98F2-175AC01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C251D-949F-4E96-BE0F-C9220623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976-763B-4AE4-B580-F5076AA2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4998CF-31AC-42FA-9C18-C97DA796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958ED-1541-4E40-AC51-1CC5EF88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B4EE8-20C9-40A6-8D78-A00F29A9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321D7-E2C4-43F0-B537-ABB8D05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70BB3-E8E3-449F-8F65-FC8AA4FB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43567-B823-461A-AE30-F03C68EE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14E67-6872-4CC7-8673-EAF8406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80DDC-C52D-4730-8193-835B4C6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029D7-4E33-4F45-92F1-DEEBF54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BA0A9-5356-424C-9E3F-5AFC811C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E9EE-014A-4339-9DE2-8CF315F5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7FB70-3E05-499F-963C-BAEA6ED1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2D5EE-59F2-4BD0-B9E9-7019650D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FE41F-CDC1-4382-BFE6-5E0E80CB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A53E-03C9-4DC4-928F-98FD0800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3BA7-7B54-42DE-A059-D565042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DAB0-C048-4054-AF16-80D7DFC6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C3DA-7B57-4557-AE60-D8684797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7811-81F1-43CA-9F53-373E210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166B-26EB-4325-9EED-587E3A3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B69-CCAB-4B87-B17F-9A9954AF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1F23-B111-4BD0-B663-C3A7A0F2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F90B-EB42-4D15-AB10-AA86988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3B0E-6E3B-45A1-B44C-F67D0858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76F3-CEDF-4244-A4B6-56A1D182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8367-F8B5-4FB7-9C73-10E6219C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0CFA-9B97-4045-95DD-B417D380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F312-F83B-4554-9C7A-DA38D262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CAA9-CFB5-4F8D-88CF-B3D4A01A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DDBA-8062-4A29-B588-96B3991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DEC8-F7E7-4DA3-A99A-040EDF41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365-DA14-4698-AD77-22CA2404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F40D-4AD2-4056-9964-8A2AF87E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B81D-B26A-4C23-8380-7ACC4CB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7411-D3CE-4129-97E1-555E9D4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FC00-5F9C-41BF-91D2-778DAA05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0607-16AF-4A54-AAAF-4E73DB2D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049B-7974-45A4-922F-8050494A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594C-7EA7-473E-93C8-99987E08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30ED6-99CE-4682-AC07-614047B7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E2E85-484F-489D-9040-BF15E9F6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03A02-B4A8-43F6-BDDA-C6F02A7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9ED-0AD3-407B-B89A-6C8DE1CF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56710-F50B-4C94-9D9F-0EF08CA2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2E58C-81F1-429B-A244-29AAC2FA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F29BC-D511-4A62-886B-B148073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0D35F-F916-40D2-9325-A82463E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D1060-3B19-49AF-98FD-02AA44C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1142A-DC40-469E-BBE1-A1EC0739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C8A21-B0E2-4131-BB47-E81DB156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622A8-BAB6-4885-918E-7EFE42F8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46067-B04E-4727-8497-40E53E92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79EA5-B2B5-4CA5-A6F8-48790804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8C3-1A1E-4AF2-904C-2FB22223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14AF9-2300-401C-A591-38E1912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A558-EF6D-44D7-B324-80B3B1F8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0D19-8BDE-4F26-9F01-5672E57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FA76-305E-46F1-9A0B-A75B9E27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96D95-B411-44B3-ACCB-3CB2152D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C2B17-D906-47E6-8035-2B66EA40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7BB4-659E-4C52-BA5F-973E9B1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2C26-AAC6-4E04-8128-9ACC1DE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9800C-A08B-4466-86C6-3605E1F0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D38E8-97A1-4183-BFD7-047B6DE2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549-BDFD-41A3-A266-DF56670A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5ACB1-FB25-45B8-9F73-F8D6CFC1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D6FF1-1E34-41A0-8930-887538F6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3410-111C-4532-B192-809A8CB1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AAD38-2D10-4715-9C0C-9F732DAE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15F8A-A7F9-42D6-975C-B9A5CB07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0B51-893C-4EDA-BFD8-24A180F7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33E02-E73D-4A44-ABA5-CB551AC2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7951A-67D7-4F7C-8C34-D608A9B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3308-A196-4C34-891C-D4ED9001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EB3F-90E4-4441-A03C-66540BA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3E6-9E7A-49BD-A9FB-CB2481D2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A0FD7-D836-4F09-9A6F-5738A11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34AD-9CE7-44C5-89A4-52FEA8B2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2E21B-AF33-41B1-9F1E-4C035CD1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DC8F1-AAE0-4D7F-8975-77E03B19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74334-9ABF-44A1-9FA7-5046238A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01B00-5BE0-44A7-810B-B1B6026C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0E019-4D53-4C69-828A-240482E9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BC423-D478-4707-8864-BB4749A9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DB2CE-4EA8-4151-AEDC-290CBF25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C104C-7BD0-4EE1-AEE5-022F5F64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453-B8DD-4827-870C-6B1713C7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6A84-3450-49F2-BEE9-8817030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928F1-3433-438C-A490-7986EE3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F656-AC51-4673-9BBE-E0E86D8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60711-6533-409A-8E0A-00623359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3B1B7-52BB-4207-BA09-493744D4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B1DC-2E72-456A-B45D-B10DB864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2AD3F-204D-4BD2-B79C-6D5D6457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DE558-BBE6-4786-8E57-850C7657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045E9-7590-4BE6-B407-6629BD25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DBDFD-E792-45A4-B4F8-6E4C395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BF5-560E-4ADB-A791-E6D2CA6D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7AEFE-07C8-4634-8747-DA8BABCB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F8B88-9F7D-420C-BABB-99C7083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875FD-0BBC-4297-A2F7-7A985334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86335-1C38-4E43-95F6-933CB6F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210BF-751B-4AB9-A635-E60A8176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769C5-6374-47D4-B352-8EBE6AA0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A0C73-49CC-42C2-91B9-84C46303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8D80A-1901-477E-B02E-62BD723E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DE39F-0BAA-4DB1-88B6-EF1789B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D0074-DCBC-4AD6-B9A5-DC99009B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7192-FF59-4759-A94F-476AA82674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0E65-293D-4FCD-97D0-26CD9AFF63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6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6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C9C9-7A19-42E1-8527-856E2A69D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DCD2-44D3-4E8C-84F5-675F415136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D744-1F26-4037-B893-CEE008C663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3AEB-6EBA-4836-966C-C990B53315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E2C3-7090-4428-BCBE-867FEADD2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0E5D-5AC3-4614-9C55-CA9C34E52B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0C76-6FD1-42D7-A9CA-3AC8703FF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CC8C-A3D5-4AD1-8BE9-269DD9420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D54F-7FB6-42CB-B210-5A13D3CFE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2057400" y="1219320"/>
            <a:ext cx="6172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l Canal del Uruguay 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124080" y="3657600"/>
            <a:ext cx="28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iempo Diaro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43200" y="47242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aron Lew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981080" y="1828800"/>
            <a:ext cx="46008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y en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6783480" y="166212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22082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2819520" y="1981080"/>
            <a:ext cx="5562360" cy="13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1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Uruguay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685800" y="3513240"/>
            <a:ext cx="5029200" cy="33447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13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571500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3°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762120" cy="7570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2209680" y="6019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3°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1295280" y="5638680"/>
            <a:ext cx="932040" cy="9320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1676520" y="2362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2°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092240" cy="10922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352680" y="5943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9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5"/>
          <a:stretch/>
        </p:blipFill>
        <p:spPr>
          <a:xfrm>
            <a:off x="4114800" y="533412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3657600" y="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838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73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onostico de siete d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85800" y="2286000"/>
          <a:ext cx="8305920" cy="3146400"/>
        </p:xfrm>
        <a:graphic>
          <a:graphicData uri="http://schemas.openxmlformats.org/drawingml/2006/table">
            <a:tbl>
              <a:tblPr/>
              <a:tblGrid>
                <a:gridCol w="1187280"/>
                <a:gridCol w="1186200"/>
                <a:gridCol w="1187280"/>
                <a:gridCol w="1184400"/>
                <a:gridCol w="1187280"/>
                <a:gridCol w="1185840"/>
                <a:gridCol w="11876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erco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e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er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in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la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ce s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 nubl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ce S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ce s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 nubl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1981080" y="2743200"/>
            <a:ext cx="968400" cy="9684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4"/>
          <a:stretch/>
        </p:blipFill>
        <p:spPr>
          <a:xfrm>
            <a:off x="3124080" y="2590920"/>
            <a:ext cx="990720" cy="9842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5"/>
          <a:stretch/>
        </p:blipFill>
        <p:spPr>
          <a:xfrm>
            <a:off x="5562720" y="2819520"/>
            <a:ext cx="914400" cy="9093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6"/>
          <a:stretch/>
        </p:blipFill>
        <p:spPr>
          <a:xfrm>
            <a:off x="4343400" y="266688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7"/>
          <a:stretch/>
        </p:blipFill>
        <p:spPr>
          <a:xfrm>
            <a:off x="6705720" y="2819520"/>
            <a:ext cx="914400" cy="90936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8"/>
          <a:stretch/>
        </p:blipFill>
        <p:spPr>
          <a:xfrm>
            <a:off x="7848720" y="266688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1981080" y="2286000"/>
            <a:ext cx="50292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ci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39:12Z</dcterms:created>
  <dc:creator>alewy11</dc:creator>
  <dc:description/>
  <dc:language>en-US</dc:language>
  <cp:lastModifiedBy>Readington Township Board of Education</cp:lastModifiedBy>
  <dcterms:modified xsi:type="dcterms:W3CDTF">2009-05-12T16:23:32Z</dcterms:modified>
  <cp:revision>8</cp:revision>
  <dc:subject/>
  <dc:title>Slide 1</dc:title>
</cp:coreProperties>
</file>